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01619"/>
        <c:axId val="23089637"/>
      </c:barChart>
      <c:catAx>
        <c:axId val="33801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89637"/>
        <c:crosses val="autoZero"/>
        <c:auto val="1"/>
        <c:lblAlgn val="ctr"/>
        <c:lblOffset val="100"/>
        <c:noMultiLvlLbl val="0"/>
      </c:catAx>
      <c:valAx>
        <c:axId val="23089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01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7C7-2BF0-4E4D-8B5D-7617CDED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553-2C77-47A0-A3FD-5DEE7653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0A6-6680-4770-B6A1-2C4892B3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3CF-39B5-44FD-8E0E-72B8CB37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F58-E437-4244-B20B-363AA2C8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576-05ED-49D4-B940-DCC724A5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B42-88B0-496E-9139-A4CE2461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A3B-97A8-48EB-B0F6-292BDC6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FB9-B7A6-41B7-8EBD-F0212E01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C1A-DAB1-43FB-8121-C26F020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B9F-3579-4E91-A2A6-8EB3F23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993-A3E9-4EF5-B6DB-C82198E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9F99E-89D0-499C-B5DD-CA3B075B5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