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65391"/>
        <c:axId val="73692906"/>
      </c:barChart>
      <c:catAx>
        <c:axId val="57065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92906"/>
        <c:crosses val="autoZero"/>
        <c:auto val="1"/>
        <c:lblAlgn val="ctr"/>
        <c:lblOffset val="100"/>
        <c:noMultiLvlLbl val="0"/>
      </c:catAx>
      <c:valAx>
        <c:axId val="73692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65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3EC-0988-4012-AE84-66ACFD9F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FD0-0A83-4FF3-AF8D-8080DE78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BB0-40E2-45A6-8318-A5BEFB57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166-5F51-4069-B731-FA9503EE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DF6-3471-477C-B4AF-7B62BEB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951-D45D-4839-AB9F-C6110DD1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41B-CBAB-45BB-B988-28499E1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95C-5D19-4575-A78E-4E5020E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F19-2889-4D6F-85D3-357C320A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EF0-1F52-4F90-8219-D63EDFB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CC1-4206-4274-ACAC-54D97BE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AC1-78BB-4B2E-873C-AC5EA92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9B4E0-C7A0-49F0-8D4B-F310CE8012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